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ACF-2F76-4CC0-91A2-9A75A179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9F5-2500-4DC2-8A7D-BC52C9C7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5C7-E9C0-4A5D-A1DB-CDDC6F38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014-D04E-4551-BC84-398934C9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81F8-C72F-4B84-BE86-060425C7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73AB-8F35-474A-9B5E-C9B57AAC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EBA8-4575-46AD-A16A-4EB6500D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0DF5-0769-4414-B25D-3A4814E0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F709-1275-4E9C-BAAA-4220F069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1B71-F872-4853-A328-A8FF661A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B0D2-840D-4FE8-BBEF-C51C2B0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430-22AA-4B64-91A5-434E705B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87EC-BA0B-400A-A9A1-A97291FB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B3E8-E75E-4083-8F51-819CBF04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F120-CE60-42B5-9F58-1AC085F0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AA71-28C0-44F5-A28A-5576110F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CE69-E445-4F8A-8DEF-3361CB56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A3FF6-78B1-424F-9EE5-23A48544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0C42-84D5-42FD-824D-7FA0C31D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9C143-C1E9-4797-A067-006FA668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5D22-8684-400E-81AA-2A076243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2FFA5-E7BE-48FC-B694-481253CB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272-70F9-4BF4-8B18-0F78A3A2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B721E-8B4C-4691-A0FE-D3B457D7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DABEC-D9E0-415F-941C-AD513B0F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ED8E9-E968-4EEC-9EA4-96FB7BEF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DA14D-AF7C-4BB2-9EFA-CFC853BF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6AE12-0F9E-4F8B-85E0-8F685591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3E81C-7DD6-4E0B-8E9C-18AD1EE3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F3AA-ED68-407D-A130-B9A5DC94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F3994-B448-49A4-BF93-0C092B3E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F6C19-1AF6-4AE1-863F-3B7C86AA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3EC9-58D5-43B6-BF45-1F0EDB4C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30B-F225-40AC-8069-B36889D3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3D80E-82FE-464B-AC71-75124FF6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5856B-1D2D-4B29-A4F5-F7083E87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2ECA-FC19-4074-8417-24D7E40A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57F9-E477-48DA-A56A-28238748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540E7-FFB0-4FE6-A590-E6947AC7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845AE-8F1D-43AA-89FA-F2A92A32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4C493-4C5D-4322-A278-AB4E36BD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7EDA-ADEF-40EC-B7A0-AD83573E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C2323-AD45-43AD-820A-28E4C806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36656-5066-40F8-8848-9F4E6728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4C5-6119-40BE-8261-02953C19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A6905-AB9C-4E7F-A53B-3625AB62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39254-13E7-4AF2-8D47-E273FB0B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5E233-9B3B-4D81-A6A4-BC136D84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31314-4966-4267-9B1C-F364335F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82635-CE52-435E-A00E-B567122F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B917F-F505-4D98-8940-FDF93D4B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9850E-1584-433E-A9C7-5F1874CA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9CD8-C950-48B4-9C2E-F3E6894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6AED6-CDD2-4150-AC15-E5A076E8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CFBF2-9C2B-46A3-950A-8372F17E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2BC-A034-42F2-B34B-D7AFF829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6DC4E-0910-4459-863E-E3988079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AE3-3774-4360-889D-4623D8CB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8DC-A737-4B9F-A46D-90AEC11E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D84-78B7-4543-8FC7-F21752F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1FF7-6374-47C0-B75F-BD8CB506BFC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9076-6973-40FC-BC6C-D8142317BDC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A4F9-381C-4459-A408-1BACDEB4C04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A2D8-BE99-43C5-8614-88BFDC3707E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1CEA-EFB3-45DB-BB07-9031F0E7466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ests And Examination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eparing for Tests and Exa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575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pare e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ing complete notes, reviewing them; focus from the first day is a major factor in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rify expec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 the details – subject, # Qs, format,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e and ques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’s important? Save everything for 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iew chapters before class, review after class; prepare for exams a week prior, SUMMARIZE notes! No distractions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eparing for Tests and Exa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30280"/>
            <a:ext cx="8183520" cy="472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 study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change notes, make up sample Qs, summarize chap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t organiz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you get the test, scan it to preview which ones you can answer quickly; pace yourself; determine important of each section by ma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ve quick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n’t panic, answer Qs you know, write what you do know for questions you think you don’t kn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read, recheck, and rethin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d over the test; extra time? Add to Q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Strategies for Taking Tests/Exam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30280"/>
            <a:ext cx="8183520" cy="465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lect on the purp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edback on what you’ve mastered in the COURSE ON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your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’t exaggerate the pressure of test-t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prepa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 to every class, review notes, study in adv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in a study t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strength, ideas, support, and commitment to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Strategies for Taking Tests/Exam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30280"/>
            <a:ext cx="8183520" cy="465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up Qs, test yourself and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 for a long walk or jo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duces st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e your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last minute cramming to reduce stress; have everything ready, have breakfast, be ear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the and rela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ming; deep breath, hold 2-3sec, release slow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Strategies for Taking Tests/Exam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ine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s a positive state of m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elf-tal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l yourself positive thin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xampl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the subj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n’t daydre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obj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, without bias, after the test at your grade, your preparation and anxiety levels, and your answer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ow can you improve for next tim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ass Work </a:t>
            </a:r>
            <a:r>
              <a:rPr b="1" lang="en-US" sz="3600" spc="-1" strike="noStrike">
                <a:solidFill>
                  <a:srgbClr val="ff8d3e"/>
                </a:solidFill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vity #7 – p7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ing Back Questions #1,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tive Ref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the activities in ch 4, I have learned…(about mysel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can use this information outside of career class by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2:09:33Z</dcterms:created>
  <dc:creator>Biega, Sarah</dc:creator>
  <dc:description/>
  <dc:language>en-US</dc:language>
  <cp:lastModifiedBy>Biega, Sarah</cp:lastModifiedBy>
  <dcterms:modified xsi:type="dcterms:W3CDTF">2012-06-07T13:08:19Z</dcterms:modified>
  <cp:revision>6</cp:revision>
  <dc:subject/>
  <dc:title>Tests And Examinations</dc:title>
</cp:coreProperties>
</file>